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58736-5CD6-4A25-BC30-DFE555C66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F572B-5D1F-4171-8BF8-8528C3B75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87CEB-4DAC-4643-942E-75A229855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CA4E0-3DC5-4F33-A762-53668F59F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36AC9-5189-4ED9-BE49-4D5979DB8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2C42B-C71B-4BE5-B4AC-8B6723DA8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EB849-E316-4DC0-A2D2-F38D25267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C6F6-054A-4487-B7F3-D3C5659B9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33AD0-55C4-4C1E-B2FD-8B864A966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F7CCF-1F4D-4410-9AE1-C302536CA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956B3-0B6E-43B2-8C34-576409EA0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A8ED5-3112-437B-BB53-C383BF548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07897-2BA1-4152-95FE-3BBFDA2FD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0A9DB-342F-41E6-8E24-9EEA0E1CF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B33B4-CC48-4A3E-9A49-D8510036A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50B7D-DDEE-4177-9050-C17ACCB26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E803-8629-42FB-A9CD-EA52CE93D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6E55-F2C7-46C6-B64E-B45A30027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B7386-E98A-4738-8ADB-547DF769B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A8845-13B1-48D3-91AD-71B74AC44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103F9-30F6-4D29-8925-5260D4C6D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3CDA-78E2-4F0D-9B17-3D7CB5809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7F56-495B-4D29-B73B-A5A80C0F7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05B1-6D1C-4849-AF0A-44335C406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48DD-BAD0-444E-B9F6-7EF6777E0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2F1C-A7D0-484B-AEF4-ADC71D8A8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96CA-B62E-42B5-86B9-190E1B9F6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0496-DAF1-458F-87D4-3F7187BAE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9AED-C686-42A5-8169-0F64E4C52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1230-3BBF-4ECC-A7F2-2B5C1D6FB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D4BC-10A6-46F2-84D8-7EB713EB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499D-CAE4-41C0-8A4A-90177EA7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21CC-6AD8-4D43-98A4-0973C26C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639B6-8AFD-4920-ABCB-8E25E99B066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250920" y="260280"/>
            <a:ext cx="8713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verag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79280" y="1773360"/>
            <a:ext cx="504036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ea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edia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od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Rang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250920" y="260280"/>
            <a:ext cx="8713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verag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179280" y="1773360"/>
            <a:ext cx="84963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EAN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 The total divided by how man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5 children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s heights are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132, 141, 118, 120, 118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ean =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125.8 c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250920" y="260280"/>
            <a:ext cx="8713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verag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79280" y="1773360"/>
            <a:ext cx="849636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edian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 The middle number in size orde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5 children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s heights are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132cm, 141cm, 118cm, 120cm, and 118c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What is the MEDIAN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250920" y="260280"/>
            <a:ext cx="8713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verag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79280" y="1773360"/>
            <a:ext cx="849636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edian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 The middle number in size orde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5 children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s heights are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118cm, 118cm, 120cm, 132cm, and 141c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What is the MEDIAN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250920" y="260280"/>
            <a:ext cx="8713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verag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79280" y="1773360"/>
            <a:ext cx="849636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edian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 The middle number in size orde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5 children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s heights are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118cm, 118cm, </a:t>
            </a: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120cm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, 132cm, and 141c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his is the MEDIA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Line 4"/>
          <p:cNvSpPr/>
          <p:nvPr/>
        </p:nvSpPr>
        <p:spPr>
          <a:xfrm flipV="1">
            <a:off x="3059280" y="3789000"/>
            <a:ext cx="7272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250920" y="260280"/>
            <a:ext cx="8713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verag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179280" y="1773360"/>
            <a:ext cx="849636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ode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 The most common on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5 children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s heights are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132cm, 141cm, 118cm, 120cm, and 118c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What is the MODE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250920" y="260280"/>
            <a:ext cx="8713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verag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179280" y="1773360"/>
            <a:ext cx="849636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ode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 The most common on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5 children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s heights are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132cm, 141cm, 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118cm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, 120cm, and 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118c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What is the MODE? 118c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randomBa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250920" y="260280"/>
            <a:ext cx="8713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verag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179280" y="1773360"/>
            <a:ext cx="849636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Range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 How far apart your values ar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5 children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s heights are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132cm, 141cm, 118cm, 120cm, and 118c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What is the RANGE?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250920" y="260280"/>
            <a:ext cx="8713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verag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179280" y="1773360"/>
            <a:ext cx="849636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Range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 How far apart your values ar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5 children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s heights are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132cm, 141cm, 118cm, 120cm, and 118c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What is the RANGE?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Biggest = 141c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Smallest = 118c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250920" y="260280"/>
            <a:ext cx="8713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verag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179280" y="1773360"/>
            <a:ext cx="849636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Range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 How far apart your values ar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5 children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s heights are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132cm, 141cm, 118cm, 120cm, and 118c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What is the RANGE?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141 and 118 are ______ apart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randomBa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250920" y="260280"/>
            <a:ext cx="8713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verag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79280" y="1773360"/>
            <a:ext cx="849636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Range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 How far apart your values ar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5 children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s heights are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132cm, 141cm, 118cm, 120cm, and 118c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What is the RANGE?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141 and 118 are 141 – 118 apart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250920" y="260280"/>
            <a:ext cx="8713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verag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79280" y="1773360"/>
            <a:ext cx="849636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ean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 The total divided by how man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edia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od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Rang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randomBa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250920" y="260280"/>
            <a:ext cx="8713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verag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79280" y="1773360"/>
            <a:ext cx="849636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Range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 How far apart your values ar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5 children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s heights are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132cm, 141cm, 118cm, 120cm, and 118c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What is the RANGE? 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23c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141 and 118 are 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apart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250920" y="260280"/>
            <a:ext cx="8713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verag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179280" y="1773360"/>
            <a:ext cx="849636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ean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 The total divided by how man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edian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 The middle number in size orde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ode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Rang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250920" y="260280"/>
            <a:ext cx="8713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verag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179280" y="1773360"/>
            <a:ext cx="849636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ean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 The total divided by how man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edian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 The middle number in size orde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ode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 The most common on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Rang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250920" y="260280"/>
            <a:ext cx="8713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verag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179280" y="1773360"/>
            <a:ext cx="849636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ean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 The total divided by how man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edian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 The middle number in size orde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ode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 The most common on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Range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 How far apart your values ar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250920" y="260280"/>
            <a:ext cx="8713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verag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79280" y="1773360"/>
            <a:ext cx="84963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EAN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 The total divided by how man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5 children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s heights are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132cm, 141cm, 118cm, 120cm, and 118c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What is the MEAN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250920" y="260280"/>
            <a:ext cx="8713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verag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179280" y="1773360"/>
            <a:ext cx="849636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EAN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 The total divided by how man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5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children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s heights are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132, 141, 118, 120, 118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ean = 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132 + 141 + 118 + 120 + 118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Line 4"/>
          <p:cNvSpPr/>
          <p:nvPr/>
        </p:nvSpPr>
        <p:spPr>
          <a:xfrm>
            <a:off x="1476360" y="5516640"/>
            <a:ext cx="446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250920" y="260280"/>
            <a:ext cx="8713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verag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79280" y="1773360"/>
            <a:ext cx="849636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EAN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 The total divided by how man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5 children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s heights are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132, 141, 118, 120, 118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ean = 132 + 141 + 118 + 120 + 118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Line 4"/>
          <p:cNvSpPr/>
          <p:nvPr/>
        </p:nvSpPr>
        <p:spPr>
          <a:xfrm>
            <a:off x="1476360" y="5516640"/>
            <a:ext cx="446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250920" y="260280"/>
            <a:ext cx="8713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verag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179280" y="1773360"/>
            <a:ext cx="849636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EAN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 The total divided by how man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5 children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s heights are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132, 141, 118, 120, 118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ean =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629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Line 4"/>
          <p:cNvSpPr/>
          <p:nvPr/>
        </p:nvSpPr>
        <p:spPr>
          <a:xfrm>
            <a:off x="1908000" y="5516640"/>
            <a:ext cx="935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7T11:43:10Z</dcterms:created>
  <dc:creator>Manager</dc:creator>
  <dc:description/>
  <dc:language>en-US</dc:language>
  <cp:lastModifiedBy>staff</cp:lastModifiedBy>
  <dcterms:modified xsi:type="dcterms:W3CDTF">2012-07-16T02:35:22Z</dcterms:modified>
  <cp:revision>4</cp:revision>
  <dc:subject/>
  <dc:title>Slide 1</dc:title>
</cp:coreProperties>
</file>